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C63-882D-4465-A184-401F178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3EA-248C-4000-9AED-31E17DF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749-1D0B-456B-A5E8-08966084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496-441F-4EC2-B33C-7D057E3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1D9-A98E-43B1-9BF3-8D5143D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17F-40B6-4D60-998C-AE414EB1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FF8-81A1-4E4D-8BAE-04FCADD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8B6-DECC-429A-B494-B065B79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885-6BDC-4407-88DD-E5118F0D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BFA-71C9-4D38-9B9D-E3DD46F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CB8-46E6-4676-AD64-72B250C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AA7-CDAD-4D70-A872-10319A9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EF8-FC56-4CA6-9C36-7ADB411D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 memory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(Hex)   Description (Each 24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r,mismatch,smt_id,seq_id,hdi_id,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ast data word r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Serr error count – Serr bit hig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atch in the seq-id or the HDI-i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error count – Zero byte not foun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undefined data_type cluster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axial data_typ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stereo data_typ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Z-axis data_typ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28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ctivity on Chip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1981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2666880"/>
          <a:ext cx="5791320" cy="1581120"/>
        </p:xfrm>
        <a:graphic>
          <a:graphicData uri="http://schemas.openxmlformats.org/drawingml/2006/table">
            <a:tbl>
              <a:tblPr/>
              <a:tblGrid>
                <a:gridCol w="3124080"/>
                <a:gridCol w="266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filter_schema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100EBC356-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EGC599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-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SFC484-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83808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Hit Filter and L3 buffers are forced in one FPLD each and the synthesis t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allowed to fit Strip Reader and Centroid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34340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hesis tool tries to accommodat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me of the excess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cially the memory of strip_reader_chip into the FPLD assigned to L3 buffer and very small fraction of it into FPLD assigned to Hit Filter and thus overall design fits into three FP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198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2286000"/>
          <a:ext cx="6781680" cy="1976400"/>
        </p:xfrm>
        <a:graphic>
          <a:graphicData uri="http://schemas.openxmlformats.org/drawingml/2006/table">
            <a:tbl>
              <a:tblPr/>
              <a:tblGrid>
                <a:gridCol w="4041360"/>
                <a:gridCol w="2740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chip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EGC599-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chip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130EFC484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filter_schem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100EBC356-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130EFC484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914400" y="914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The Hit Filter and L3 buffers are forced to fit in one FPLD each and the Strip Reader with Centroid Finder is forced to fit in two FP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48320"/>
            <a:ext cx="73152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ip reader needed two FPLDs because of the need of EABs for the memory blocks. Each memory block regardless of the memory requirement has minimum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wo EABs,this is due to the word length more than 8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4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t Filter, L3 buffers and the Strip Reader with Centroid Finder are forced to fit in one FPLD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82600" y="392256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ip reader design now fits into one chip , because downloaded parameters do not use EAB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19320" y="2057400"/>
          <a:ext cx="6933960" cy="1581120"/>
        </p:xfrm>
        <a:graphic>
          <a:graphicData uri="http://schemas.openxmlformats.org/drawingml/2006/table">
            <a:tbl>
              <a:tblPr/>
              <a:tblGrid>
                <a:gridCol w="4132440"/>
                <a:gridCol w="280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filter_schema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SBC356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EGC599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SFC484-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 memory 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260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cellaneous memory space constitutes of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d channel: 32 X 64 – address : 0400 – 047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ip ranges : 24 X 1 – address : 04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ulse area thresholds:36 X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: 0500 – 05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iscellaneous parameters: 20 X 1 – SEQ_ID(8), HDI_ID(3),Disable bit(1), and Delay count (8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ddress : 05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luster threshold values: 17 X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: 0600 – 0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4335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ster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09680" y="380880"/>
          <a:ext cx="61722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61722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228600"/>
            <a:ext cx="7792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ustering algorithm (continued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81080" y="838080"/>
          <a:ext cx="5327640" cy="586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38080"/>
                    <a:ext cx="532764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3649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 filter Control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609480"/>
          <a:ext cx="685800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6858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28600"/>
            <a:ext cx="64771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filter Control Logic (continued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762120"/>
          <a:ext cx="5562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562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3649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format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743200" y="228600"/>
          <a:ext cx="50292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5029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8769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format Logic (continued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79880" y="457200"/>
          <a:ext cx="482112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9880" y="457200"/>
                    <a:ext cx="48211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19320" y="1905120"/>
          <a:ext cx="7391160" cy="2371680"/>
        </p:xfrm>
        <a:graphic>
          <a:graphicData uri="http://schemas.openxmlformats.org/drawingml/2006/table">
            <a:tbl>
              <a:tblPr/>
              <a:tblGrid>
                <a:gridCol w="4405320"/>
                <a:gridCol w="298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EGC599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200EGC599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30ETC144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_schematic-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30EQC208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p_reader_hitfilter_l3_schem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F10K50EQC208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ynthesis tool was allowed to fit the design in minimum number of FP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495680"/>
            <a:ext cx="8153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hesis tool mapped the design i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ve FPL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th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 Array Block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Bs) were uniformly distributed but the major portion of the memory was set in the larger FPLDs. The FPLDs holding the memory had very small percentage of logic cells occup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16:30:58Z</dcterms:created>
  <dc:creator>Preferred Customer</dc:creator>
  <dc:description/>
  <dc:language>en-US</dc:language>
  <cp:lastModifiedBy>Preferred Customer</cp:lastModifiedBy>
  <dcterms:modified xsi:type="dcterms:W3CDTF">2000-11-28T17:37:27Z</dcterms:modified>
  <cp:revision>26</cp:revision>
  <dc:subject/>
  <dc:title>PowerPoint Presentation</dc:title>
</cp:coreProperties>
</file>