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A27-94A8-41D6-B970-CEF8A577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FCC-5FA2-47B5-B202-FA3C1B98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860-16E6-4119-BE12-2FE42F90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990-C06E-4A25-BFE1-BC9D37A2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EC1B-4A11-45C1-8121-B340DD5D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70EB-E33B-4633-9928-E474448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7A88-BA47-4C04-8D72-79C1F19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B38-3735-4A18-8D5B-BA383DE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9903-C192-4FEC-A2A1-91D68F3A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352A-424E-4CD3-A592-B7C5575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DC57-B6BD-4DE3-9495-CF02925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E84-C081-4D99-A7B1-627AD580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7AD5-181A-4FF9-8B2C-CBE1711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E179-C125-4F3D-8C04-142EFD3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D609-8C31-45E5-BF48-BBEBC6CA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6CAC-4D3D-4337-A2A6-A2F18284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55F5-78F4-4EA4-AF7C-E68177E5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C14-494A-43C7-ABE1-C8856475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674-E4BF-46DB-B962-6D633691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AEB-3835-482D-820C-82519C42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CE9-EBAE-487A-A45A-8A4984A4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9FC-382B-4A83-9FAA-33F2371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828-ACCC-457E-9BD9-8AB94075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E37-F7D2-40DB-A242-D15EDFE6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768C-5581-4AC5-BD74-1709DC446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DB55-2279-4153-B9D3-4018AB930D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HDL design and FPLD implementa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Silicon Track Car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weta Lol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02920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 partial fulfillment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equirements for the deg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f Masters Of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2STT flowch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81680" y="182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0 internal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990720"/>
            <a:ext cx="77929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lock diagram of the STC data pa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27320" y="1905120"/>
            <a:ext cx="7816680" cy="4359240"/>
            <a:chOff x="1327320" y="1905120"/>
            <a:chExt cx="7816680" cy="4359240"/>
          </a:xfrm>
        </p:grpSpPr>
        <p:grpSp>
          <p:nvGrpSpPr>
            <p:cNvPr id="129" name=""/>
            <p:cNvGrpSpPr/>
            <p:nvPr/>
          </p:nvGrpSpPr>
          <p:grpSpPr>
            <a:xfrm>
              <a:off x="5365800" y="2709720"/>
              <a:ext cx="2635200" cy="2555640"/>
              <a:chOff x="5365800" y="2709720"/>
              <a:chExt cx="2635200" cy="2555640"/>
            </a:xfrm>
          </p:grpSpPr>
          <p:sp>
            <p:nvSpPr>
              <p:cNvPr id="130" name=""/>
              <p:cNvSpPr/>
              <p:nvPr/>
            </p:nvSpPr>
            <p:spPr>
              <a:xfrm>
                <a:off x="5365800" y="3908520"/>
                <a:ext cx="763560" cy="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6589800" y="4323960"/>
                <a:ext cx="0" cy="94140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04120" y="2709720"/>
                <a:ext cx="0" cy="90360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00800" y="3809880"/>
                <a:ext cx="1600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o L3 Buff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327320" y="1905120"/>
              <a:ext cx="7816680" cy="4359240"/>
              <a:chOff x="1327320" y="1905120"/>
              <a:chExt cx="7816680" cy="43592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6800760" y="4869000"/>
                <a:ext cx="2343240" cy="1395360"/>
                <a:chOff x="6800760" y="4869000"/>
                <a:chExt cx="2343240" cy="13953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800760" y="5614920"/>
                  <a:ext cx="8254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02640" y="5500800"/>
                  <a:ext cx="123660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 Lines Main Control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764480" y="5987880"/>
                  <a:ext cx="934920" cy="276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 Li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800760" y="6111720"/>
                  <a:ext cx="75096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800760" y="5299200"/>
                  <a:ext cx="82548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696080" y="5184720"/>
                  <a:ext cx="1447920" cy="23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andshake Signal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00760" y="4933800"/>
                  <a:ext cx="825480" cy="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26320" y="4869000"/>
                  <a:ext cx="1351080" cy="222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 Li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930480" y="1905120"/>
                <a:ext cx="1951200" cy="1244160"/>
                <a:chOff x="3930480" y="1905120"/>
                <a:chExt cx="1951200" cy="1244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930480" y="2454480"/>
                  <a:ext cx="1456920" cy="69480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trip R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638600" y="1905120"/>
                  <a:ext cx="0" cy="56592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03840" y="1920240"/>
                  <a:ext cx="1077840" cy="52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VTM Data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28200" y="1905120"/>
                  <a:ext cx="0" cy="565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898800" y="3138480"/>
                <a:ext cx="1457280" cy="1193760"/>
                <a:chOff x="3898800" y="3138480"/>
                <a:chExt cx="1457280" cy="1193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898800" y="3573360"/>
                  <a:ext cx="1457280" cy="75888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entroid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000000"/>
                      </a:solidFill>
                      <a:latin typeface="Times New Roman"/>
                    </a:rPr>
                    <a:t>Finder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27440" y="3154320"/>
                  <a:ext cx="0" cy="44280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30640" y="3138480"/>
                  <a:ext cx="0" cy="3920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327320" y="2247840"/>
                <a:ext cx="2650680" cy="2028600"/>
                <a:chOff x="1327320" y="2247840"/>
                <a:chExt cx="2650680" cy="2028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834280" y="3959280"/>
                  <a:ext cx="107208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415520" y="3427560"/>
                  <a:ext cx="1420200" cy="84888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Down -loaded Parameters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098800" y="2852280"/>
                  <a:ext cx="0" cy="56520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27320" y="2247840"/>
                  <a:ext cx="1495800" cy="504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Data from the main controll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3333600" y="2725200"/>
                  <a:ext cx="0" cy="78912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97960" y="2724840"/>
                  <a:ext cx="68004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35000" y="3526920"/>
                  <a:ext cx="53460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398920" y="2722680"/>
                <a:ext cx="1202040" cy="2517480"/>
                <a:chOff x="5398920" y="2722680"/>
                <a:chExt cx="1202040" cy="25174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398920" y="5240160"/>
                  <a:ext cx="120204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98920" y="2722680"/>
                  <a:ext cx="109404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46160" y="4332240"/>
                <a:ext cx="4422960" cy="1687680"/>
                <a:chOff x="1946160" y="4332240"/>
                <a:chExt cx="4422960" cy="16876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84920" y="4334040"/>
                  <a:ext cx="0" cy="50292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224320" y="4529160"/>
                  <a:ext cx="1144800" cy="29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entroids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162320" y="4359240"/>
                  <a:ext cx="0" cy="465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6160" y="4889520"/>
                  <a:ext cx="1752840" cy="298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Roads from FRC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30480" y="4838760"/>
                  <a:ext cx="1455840" cy="65700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it Fi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411360" y="5176800"/>
                  <a:ext cx="528840" cy="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29200" y="5518080"/>
                  <a:ext cx="0" cy="46692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257800" y="5638680"/>
                  <a:ext cx="7128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i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14760" y="4332240"/>
                  <a:ext cx="0" cy="503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72000" y="5486400"/>
                  <a:ext cx="0" cy="533520"/>
                </a:xfrm>
                <a:prstGeom prst="line">
                  <a:avLst/>
                </a:prstGeom>
                <a:ln w="7632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666880" y="5638680"/>
                  <a:ext cx="147492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Z-centroi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ownloaded parameters and monitoring da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035080"/>
            <a:ext cx="0" cy="13255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62120" y="1828800"/>
            <a:ext cx="8381880" cy="2209320"/>
            <a:chOff x="762120" y="1828800"/>
            <a:chExt cx="8381880" cy="2209320"/>
          </a:xfrm>
        </p:grpSpPr>
        <p:grpSp>
          <p:nvGrpSpPr>
            <p:cNvPr id="179" name=""/>
            <p:cNvGrpSpPr/>
            <p:nvPr/>
          </p:nvGrpSpPr>
          <p:grpSpPr>
            <a:xfrm>
              <a:off x="1219320" y="2629080"/>
              <a:ext cx="1942920" cy="409320"/>
              <a:chOff x="1219320" y="2629080"/>
              <a:chExt cx="1942920" cy="409320"/>
            </a:xfrm>
          </p:grpSpPr>
          <p:sp>
            <p:nvSpPr>
              <p:cNvPr id="180" name=""/>
              <p:cNvSpPr/>
              <p:nvPr/>
            </p:nvSpPr>
            <p:spPr>
              <a:xfrm>
                <a:off x="2552760" y="262908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19320" y="2784960"/>
                <a:ext cx="1562040" cy="25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Data from Main Control Modu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220920" y="3141720"/>
              <a:ext cx="4856400" cy="344160"/>
              <a:chOff x="3220920" y="3141720"/>
              <a:chExt cx="4856400" cy="3441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20920" y="3377160"/>
                <a:ext cx="72864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43600" y="3369960"/>
                <a:ext cx="4953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62520" y="3253680"/>
                <a:ext cx="2019240" cy="232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ad data LU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53080" y="3141720"/>
                <a:ext cx="1524240" cy="174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Hit Filt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62120" y="3417840"/>
              <a:ext cx="8381880" cy="620280"/>
              <a:chOff x="762120" y="3417840"/>
              <a:chExt cx="8381880" cy="620280"/>
            </a:xfrm>
          </p:grpSpPr>
          <p:sp>
            <p:nvSpPr>
              <p:cNvPr id="188" name=""/>
              <p:cNvSpPr/>
              <p:nvPr/>
            </p:nvSpPr>
            <p:spPr>
              <a:xfrm>
                <a:off x="3886200" y="3720960"/>
                <a:ext cx="2019240" cy="291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onitoring Dat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200040" y="3876120"/>
                <a:ext cx="6858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866920" y="3876120"/>
                <a:ext cx="685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05720" y="3417840"/>
                <a:ext cx="2438280" cy="50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Counters from Strip Reader and Centroid Find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2120" y="3624480"/>
                <a:ext cx="2361960" cy="413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Monitoring data to Main Control Modul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200400" y="1828800"/>
              <a:ext cx="4952880" cy="1171440"/>
              <a:chOff x="3200400" y="1828800"/>
              <a:chExt cx="4952880" cy="11714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200400" y="1828800"/>
                <a:ext cx="4648320" cy="990720"/>
                <a:chOff x="3200400" y="1828800"/>
                <a:chExt cx="4648320" cy="9907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911760" y="2297160"/>
                  <a:ext cx="2019240" cy="2905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ain Offset LU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220920" y="2362320"/>
                  <a:ext cx="72864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3600" y="2401920"/>
                  <a:ext cx="49536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477120" y="2057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477120" y="2362320"/>
                  <a:ext cx="72396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629400" y="1905120"/>
                  <a:ext cx="1219320" cy="304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Strip read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886200" y="1828800"/>
                  <a:ext cx="2019240" cy="3826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est data LU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200400" y="2031840"/>
                  <a:ext cx="72864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05440" y="2082960"/>
                  <a:ext cx="5716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943600" y="2743200"/>
                  <a:ext cx="49536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200400" y="2666880"/>
                <a:ext cx="4952880" cy="333360"/>
                <a:chOff x="3200400" y="2666880"/>
                <a:chExt cx="4952880" cy="3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962520" y="2668680"/>
                  <a:ext cx="1981080" cy="331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iscellaneous 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29400" y="2666880"/>
                  <a:ext cx="1523880" cy="176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entroid Find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200400" y="2895480"/>
                  <a:ext cx="72864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943600" y="2895480"/>
                  <a:ext cx="5716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0" name=""/>
          <p:cNvSpPr/>
          <p:nvPr/>
        </p:nvSpPr>
        <p:spPr>
          <a:xfrm>
            <a:off x="1752480" y="4267080"/>
            <a:ext cx="60199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mory allotted to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mory spac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onitor space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K X 32          0000 – 03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iscellaneous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K X 32          0400 – 07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Gain Offset LUT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K X 8            0800 – 17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data LUT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K (default)    1800 – 1B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(required)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56 X 18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mpty Space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1C00 – 3F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oad data LUT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6 K X 2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4000 – 7F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data stre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38080" y="2666880"/>
            <a:ext cx="7543800" cy="3842640"/>
            <a:chOff x="838080" y="2666880"/>
            <a:chExt cx="7543800" cy="3842640"/>
          </a:xfrm>
        </p:grpSpPr>
        <p:sp>
          <p:nvSpPr>
            <p:cNvPr id="213" name=""/>
            <p:cNvSpPr/>
            <p:nvPr/>
          </p:nvSpPr>
          <p:spPr>
            <a:xfrm>
              <a:off x="1066680" y="3733920"/>
              <a:ext cx="7315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7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8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4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D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4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6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6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7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B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C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4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D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5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F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8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7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7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8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6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9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7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838080" y="2666880"/>
              <a:ext cx="7010640" cy="3842640"/>
              <a:chOff x="838080" y="2666880"/>
              <a:chExt cx="7010640" cy="3842640"/>
            </a:xfrm>
          </p:grpSpPr>
          <p:sp>
            <p:nvSpPr>
              <p:cNvPr id="215" name="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38080" y="304812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EQ_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52480" y="304812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HDI_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24080" y="3352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66880" y="297180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HIP_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14800" y="3352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57600" y="27432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 OF ZER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52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0" y="2666880"/>
                <a:ext cx="990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TRIP NUM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67280" y="3352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62720" y="2743200"/>
                <a:ext cx="914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ATA VAL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781680" y="563868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72200" y="617220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END OF EV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ip R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1828800"/>
            <a:ext cx="6324120" cy="2819160"/>
            <a:chOff x="1447920" y="1828800"/>
            <a:chExt cx="6324120" cy="2819160"/>
          </a:xfrm>
        </p:grpSpPr>
        <p:grpSp>
          <p:nvGrpSpPr>
            <p:cNvPr id="231" name=""/>
            <p:cNvGrpSpPr/>
            <p:nvPr/>
          </p:nvGrpSpPr>
          <p:grpSpPr>
            <a:xfrm>
              <a:off x="1447920" y="1828800"/>
              <a:ext cx="6324120" cy="2819160"/>
              <a:chOff x="1447920" y="1828800"/>
              <a:chExt cx="6324120" cy="28191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2021040" y="4098960"/>
                <a:ext cx="2522160" cy="420480"/>
                <a:chOff x="2021040" y="4098960"/>
                <a:chExt cx="2522160" cy="420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031120" y="4457880"/>
                  <a:ext cx="552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021040" y="4248360"/>
                  <a:ext cx="516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672640" y="4098960"/>
                  <a:ext cx="1870560" cy="42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and shaking signal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ata 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447920" y="1828800"/>
                <a:ext cx="6324120" cy="2819160"/>
                <a:chOff x="1447920" y="1828800"/>
                <a:chExt cx="6324120" cy="281916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1447920" y="2743560"/>
                  <a:ext cx="2311920" cy="920880"/>
                  <a:chOff x="1447920" y="2743560"/>
                  <a:chExt cx="2311920" cy="920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2244240" y="3011760"/>
                    <a:ext cx="931320" cy="65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M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ata filt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198240" y="3321360"/>
                    <a:ext cx="549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1683720" y="3321360"/>
                    <a:ext cx="549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447920" y="2743560"/>
                    <a:ext cx="1034640" cy="23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MT Da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175920" y="3211560"/>
                    <a:ext cx="583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3758400" y="1828800"/>
                  <a:ext cx="1866240" cy="1864440"/>
                  <a:chOff x="3758400" y="1828800"/>
                  <a:chExt cx="1866240" cy="1864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3758400" y="2880000"/>
                    <a:ext cx="388080" cy="813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4147200" y="1828800"/>
                    <a:ext cx="1477440" cy="1861920"/>
                    <a:chOff x="4147200" y="1828800"/>
                    <a:chExt cx="1477440" cy="18619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157280" y="3214800"/>
                      <a:ext cx="5522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147200" y="3033720"/>
                      <a:ext cx="5504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201280" y="3317760"/>
                      <a:ext cx="0" cy="372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583520" y="1828800"/>
                      <a:ext cx="1000440" cy="64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 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693320" y="2825280"/>
                      <a:ext cx="931320" cy="484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Selec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156640" y="2486160"/>
                      <a:ext cx="0" cy="372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4887000" y="2631960"/>
                  <a:ext cx="2885040" cy="2016000"/>
                  <a:chOff x="4887000" y="2631960"/>
                  <a:chExt cx="2885040" cy="20160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5284440" y="4390200"/>
                    <a:ext cx="1276560" cy="257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</a:t>
                    </a:r>
                    <a:r>
                      <a:rPr b="0" lang="en-US" sz="14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3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uff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887000" y="3669480"/>
                    <a:ext cx="1189440" cy="4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ip Reader Contro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627240" y="3603240"/>
                    <a:ext cx="388080" cy="75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099120" y="4012560"/>
                    <a:ext cx="516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037280" y="3900600"/>
                    <a:ext cx="516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799680" y="2937600"/>
                    <a:ext cx="972360" cy="650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entroid Fin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99120" y="3858840"/>
                    <a:ext cx="5169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026120" y="4070520"/>
                    <a:ext cx="51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8120" y="4126680"/>
                    <a:ext cx="0" cy="372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742000" y="2631960"/>
                    <a:ext cx="866880" cy="641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a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rom Memor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847480" y="3299040"/>
                    <a:ext cx="0" cy="372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4" name=""/>
            <p:cNvGrpSpPr/>
            <p:nvPr/>
          </p:nvGrpSpPr>
          <p:grpSpPr>
            <a:xfrm>
              <a:off x="1681920" y="2418840"/>
              <a:ext cx="4137480" cy="1357560"/>
              <a:chOff x="1681920" y="2418840"/>
              <a:chExt cx="4137480" cy="13575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1760040" y="3205440"/>
                <a:ext cx="3117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242880" y="3205440"/>
                <a:ext cx="31212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038920" y="2549880"/>
                <a:ext cx="234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258080" y="3074040"/>
                <a:ext cx="234000" cy="2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81920" y="3402360"/>
                <a:ext cx="3135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43240" y="3469320"/>
                <a:ext cx="4683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79960" y="3336480"/>
                <a:ext cx="466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51040" y="2418840"/>
                <a:ext cx="4683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 flipV="1">
            <a:off x="7162920" y="3809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3581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23880" y="4876920"/>
            <a:ext cx="6259320" cy="609480"/>
            <a:chOff x="1523880" y="4876920"/>
            <a:chExt cx="6259320" cy="609480"/>
          </a:xfrm>
        </p:grpSpPr>
        <p:grpSp>
          <p:nvGrpSpPr>
            <p:cNvPr id="276" name=""/>
            <p:cNvGrpSpPr/>
            <p:nvPr/>
          </p:nvGrpSpPr>
          <p:grpSpPr>
            <a:xfrm>
              <a:off x="1528560" y="4878720"/>
              <a:ext cx="6249960" cy="604800"/>
              <a:chOff x="1528560" y="4878720"/>
              <a:chExt cx="6249960" cy="60480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528560" y="4878720"/>
                <a:ext cx="1633680" cy="302400"/>
                <a:chOff x="1528560" y="4878720"/>
                <a:chExt cx="1633680" cy="302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596960" y="4878720"/>
                  <a:ext cx="1496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.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28560" y="4878720"/>
                  <a:ext cx="1633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162240" y="4878720"/>
                <a:ext cx="2136600" cy="302400"/>
                <a:chOff x="3162240" y="4878720"/>
                <a:chExt cx="2136600" cy="3024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230280" y="4878720"/>
                  <a:ext cx="2000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.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162240" y="4878720"/>
                  <a:ext cx="2136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298840" y="4878720"/>
                <a:ext cx="2479680" cy="302400"/>
                <a:chOff x="5298840" y="4878720"/>
                <a:chExt cx="2479680" cy="3024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367240" y="4878720"/>
                  <a:ext cx="2342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298840" y="4878720"/>
                  <a:ext cx="2479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528560" y="5181120"/>
                <a:ext cx="1633680" cy="302400"/>
                <a:chOff x="1528560" y="5181120"/>
                <a:chExt cx="1633680" cy="3024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596960" y="5181120"/>
                  <a:ext cx="1496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ror bi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28560" y="5181120"/>
                  <a:ext cx="1633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162240" y="5181120"/>
                <a:ext cx="2136600" cy="302400"/>
                <a:chOff x="3162240" y="5181120"/>
                <a:chExt cx="2136600" cy="3024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230280" y="5181120"/>
                  <a:ext cx="2000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gher by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162240" y="5181120"/>
                  <a:ext cx="2136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298840" y="5181120"/>
                <a:ext cx="2479680" cy="302400"/>
                <a:chOff x="5298840" y="5181120"/>
                <a:chExt cx="2479680" cy="3024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367240" y="5181120"/>
                  <a:ext cx="2342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wer by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298840" y="5181120"/>
                  <a:ext cx="2479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1523880" y="4876920"/>
              <a:ext cx="6259320" cy="609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90720" y="5791320"/>
            <a:ext cx="7526160" cy="761760"/>
            <a:chOff x="990720" y="5791320"/>
            <a:chExt cx="7526160" cy="761760"/>
          </a:xfrm>
        </p:grpSpPr>
        <p:grpSp>
          <p:nvGrpSpPr>
            <p:cNvPr id="297" name=""/>
            <p:cNvGrpSpPr/>
            <p:nvPr/>
          </p:nvGrpSpPr>
          <p:grpSpPr>
            <a:xfrm>
              <a:off x="995400" y="5793480"/>
              <a:ext cx="7516800" cy="756720"/>
              <a:chOff x="995400" y="5793480"/>
              <a:chExt cx="7516800" cy="75672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995400" y="5793480"/>
                <a:ext cx="1119240" cy="326520"/>
                <a:chOff x="995400" y="5793480"/>
                <a:chExt cx="1119240" cy="326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063800" y="5793480"/>
                  <a:ext cx="9824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..2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995400" y="5793480"/>
                  <a:ext cx="111924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114640" y="5793480"/>
                <a:ext cx="1165320" cy="326520"/>
                <a:chOff x="2114640" y="5793480"/>
                <a:chExt cx="1165320" cy="3265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182680" y="5793480"/>
                  <a:ext cx="102888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114640" y="5793480"/>
                  <a:ext cx="116532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279960" y="5793480"/>
                <a:ext cx="936360" cy="326520"/>
                <a:chOff x="3279960" y="5793480"/>
                <a:chExt cx="936360" cy="326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348000" y="5793480"/>
                  <a:ext cx="80028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279960" y="5793480"/>
                  <a:ext cx="93636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216320" y="5793480"/>
                <a:ext cx="1336680" cy="326520"/>
                <a:chOff x="4216320" y="5793480"/>
                <a:chExt cx="1336680" cy="3265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284720" y="5793480"/>
                  <a:ext cx="12002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.1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16320" y="5793480"/>
                  <a:ext cx="133668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553000" y="5793480"/>
                <a:ext cx="1508400" cy="326520"/>
                <a:chOff x="5553000" y="5793480"/>
                <a:chExt cx="1508400" cy="3265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621400" y="5793480"/>
                  <a:ext cx="137160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.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53000" y="5793480"/>
                  <a:ext cx="150840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061400" y="5793480"/>
                <a:ext cx="1450800" cy="326520"/>
                <a:chOff x="7061400" y="5793480"/>
                <a:chExt cx="1450800" cy="326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129440" y="5793480"/>
                  <a:ext cx="131436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61400" y="5793480"/>
                  <a:ext cx="145080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995400" y="6120000"/>
                <a:ext cx="1119240" cy="430200"/>
                <a:chOff x="995400" y="6120000"/>
                <a:chExt cx="1119240" cy="4302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063800" y="6120000"/>
                  <a:ext cx="98244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a typ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95400" y="6120000"/>
                  <a:ext cx="111924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114640" y="6120000"/>
                <a:ext cx="1165320" cy="430200"/>
                <a:chOff x="2114640" y="6120000"/>
                <a:chExt cx="1165320" cy="430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182680" y="6120000"/>
                  <a:ext cx="102888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w data b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114640" y="6120000"/>
                  <a:ext cx="116532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279960" y="6120000"/>
                <a:ext cx="936360" cy="430200"/>
                <a:chOff x="3279960" y="6120000"/>
                <a:chExt cx="936360" cy="4302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348000" y="6120000"/>
                  <a:ext cx="80028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d of 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279960" y="6120000"/>
                  <a:ext cx="93636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216320" y="6120000"/>
                <a:ext cx="1336680" cy="430200"/>
                <a:chOff x="4216320" y="6120000"/>
                <a:chExt cx="1336680" cy="4302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284720" y="6120000"/>
                  <a:ext cx="120024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216320" y="6120000"/>
                  <a:ext cx="133668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553000" y="6120000"/>
                <a:ext cx="1508400" cy="430200"/>
                <a:chOff x="5553000" y="6120000"/>
                <a:chExt cx="1508400" cy="4302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621400" y="6120000"/>
                  <a:ext cx="13716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ip I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553000" y="6120000"/>
                  <a:ext cx="150840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061400" y="6120000"/>
                <a:ext cx="1450800" cy="430200"/>
                <a:chOff x="7061400" y="6120000"/>
                <a:chExt cx="1450800" cy="4302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129440" y="6120000"/>
                  <a:ext cx="13143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ip num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061400" y="6120000"/>
                  <a:ext cx="145080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990720" y="5791320"/>
              <a:ext cx="7526160" cy="76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ntroid Fin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752480" y="1828800"/>
            <a:ext cx="6171840" cy="2971440"/>
            <a:chOff x="1752480" y="1828800"/>
            <a:chExt cx="6171840" cy="2971440"/>
          </a:xfrm>
        </p:grpSpPr>
        <p:grpSp>
          <p:nvGrpSpPr>
            <p:cNvPr id="337" name=""/>
            <p:cNvGrpSpPr/>
            <p:nvPr/>
          </p:nvGrpSpPr>
          <p:grpSpPr>
            <a:xfrm>
              <a:off x="1752480" y="1828800"/>
              <a:ext cx="6171840" cy="2971440"/>
              <a:chOff x="1752480" y="1828800"/>
              <a:chExt cx="6171840" cy="2971440"/>
            </a:xfrm>
          </p:grpSpPr>
          <p:sp>
            <p:nvSpPr>
              <p:cNvPr id="338" name=""/>
              <p:cNvSpPr/>
              <p:nvPr/>
            </p:nvSpPr>
            <p:spPr>
              <a:xfrm>
                <a:off x="1752480" y="1953720"/>
                <a:ext cx="1131840" cy="63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o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trip Read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2168280" y="1828800"/>
                <a:ext cx="5756040" cy="2971440"/>
                <a:chOff x="2168280" y="1828800"/>
                <a:chExt cx="5756040" cy="297144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5433120" y="3901320"/>
                  <a:ext cx="2491200" cy="898920"/>
                  <a:chOff x="5433120" y="3901320"/>
                  <a:chExt cx="2491200" cy="8989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5436720" y="4109040"/>
                    <a:ext cx="63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433120" y="4358880"/>
                    <a:ext cx="646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433120" y="4592160"/>
                    <a:ext cx="646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168960" y="3901320"/>
                    <a:ext cx="1755360" cy="898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ata strea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rol sign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andshaking signal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2168280" y="1828800"/>
                  <a:ext cx="5513040" cy="1714680"/>
                  <a:chOff x="2168280" y="1828800"/>
                  <a:chExt cx="5513040" cy="17146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778480" y="2652840"/>
                    <a:ext cx="1161360" cy="64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luster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nd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534920" y="2598480"/>
                    <a:ext cx="1063440" cy="73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entroid Calculat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68280" y="2927520"/>
                    <a:ext cx="614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940200" y="2919240"/>
                    <a:ext cx="616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0360" y="2948400"/>
                    <a:ext cx="63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407040" y="1970280"/>
                    <a:ext cx="0" cy="686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488760" y="1828800"/>
                    <a:ext cx="1145880" cy="63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ata fro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emor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228720" y="2357280"/>
                    <a:ext cx="443160" cy="118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71880" y="2956680"/>
                    <a:ext cx="418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782760" y="2165760"/>
                    <a:ext cx="898560" cy="611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t Fi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385360" y="3285360"/>
                  <a:ext cx="2901240" cy="1314720"/>
                  <a:chOff x="2385360" y="3285360"/>
                  <a:chExt cx="2901240" cy="13147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385360" y="3976200"/>
                    <a:ext cx="1013400" cy="56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3 Buff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414960" y="3963600"/>
                    <a:ext cx="898560" cy="611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t Filt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943000" y="3305880"/>
                    <a:ext cx="0" cy="574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>
                    <a:off x="3650040" y="3285360"/>
                    <a:ext cx="15480" cy="599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64600" y="3305880"/>
                    <a:ext cx="17640" cy="636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797360" y="3326760"/>
                    <a:ext cx="0" cy="536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306320" y="4038480"/>
                    <a:ext cx="980280" cy="56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3 Buff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64" name=""/>
            <p:cNvSpPr/>
            <p:nvPr/>
          </p:nvSpPr>
          <p:spPr>
            <a:xfrm flipH="1">
              <a:off x="2285280" y="2824920"/>
              <a:ext cx="22860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040" y="31100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705000" y="2824920"/>
              <a:ext cx="228600" cy="2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81680" y="31100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143000" y="4876920"/>
            <a:ext cx="69343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from Centroid Calculator to Hit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95280" y="5791320"/>
            <a:ext cx="5688000" cy="533160"/>
            <a:chOff x="1295280" y="5791320"/>
            <a:chExt cx="5688000" cy="533160"/>
          </a:xfrm>
        </p:grpSpPr>
        <p:grpSp>
          <p:nvGrpSpPr>
            <p:cNvPr id="370" name=""/>
            <p:cNvGrpSpPr/>
            <p:nvPr/>
          </p:nvGrpSpPr>
          <p:grpSpPr>
            <a:xfrm>
              <a:off x="1299960" y="5793120"/>
              <a:ext cx="5678640" cy="529200"/>
              <a:chOff x="1299960" y="5793120"/>
              <a:chExt cx="5678640" cy="52920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1299960" y="5793120"/>
                <a:ext cx="1233360" cy="264600"/>
                <a:chOff x="1299960" y="5793120"/>
                <a:chExt cx="1233360" cy="2646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368360" y="5793120"/>
                  <a:ext cx="109692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.1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299960" y="5793120"/>
                  <a:ext cx="123336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533320" y="5793120"/>
                <a:ext cx="1600200" cy="264600"/>
                <a:chOff x="2533320" y="5793120"/>
                <a:chExt cx="1600200" cy="2646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2601720" y="5793120"/>
                  <a:ext cx="146376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.1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533320" y="5793120"/>
                  <a:ext cx="160020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133520" y="5793120"/>
                <a:ext cx="1336680" cy="264600"/>
                <a:chOff x="4133520" y="5793120"/>
                <a:chExt cx="1336680" cy="264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201920" y="5793120"/>
                  <a:ext cx="1200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33520" y="5793120"/>
                  <a:ext cx="1336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470200" y="5793120"/>
                <a:ext cx="1508400" cy="264600"/>
                <a:chOff x="5470200" y="5793120"/>
                <a:chExt cx="1508400" cy="264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538600" y="5793120"/>
                  <a:ext cx="137160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470200" y="5793120"/>
                  <a:ext cx="150840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1299960" y="6057720"/>
                <a:ext cx="1233360" cy="264600"/>
                <a:chOff x="1299960" y="6057720"/>
                <a:chExt cx="1233360" cy="2646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368360" y="6057720"/>
                  <a:ext cx="109692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a typ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99960" y="6057720"/>
                  <a:ext cx="123336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533320" y="6057720"/>
                <a:ext cx="1600200" cy="264600"/>
                <a:chOff x="2533320" y="6057720"/>
                <a:chExt cx="1600200" cy="2646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601720" y="6057720"/>
                  <a:ext cx="146376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lse A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533320" y="6057720"/>
                  <a:ext cx="160020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33520" y="6057720"/>
                <a:ext cx="1336680" cy="264600"/>
                <a:chOff x="4133520" y="6057720"/>
                <a:chExt cx="1336680" cy="2646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201920" y="6057720"/>
                  <a:ext cx="1200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io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33520" y="6057720"/>
                  <a:ext cx="1336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470200" y="6057720"/>
                <a:ext cx="1508400" cy="264600"/>
                <a:chOff x="5470200" y="6057720"/>
                <a:chExt cx="1508400" cy="2646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538600" y="6057720"/>
                  <a:ext cx="137160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cision bi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70200" y="6057720"/>
                  <a:ext cx="150840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1295280" y="5791320"/>
              <a:ext cx="568800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ustering algorithm exam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58800" y="1955880"/>
            <a:ext cx="7951680" cy="4096440"/>
            <a:chOff x="658800" y="1955880"/>
            <a:chExt cx="7951680" cy="4096440"/>
          </a:xfrm>
        </p:grpSpPr>
        <p:grpSp>
          <p:nvGrpSpPr>
            <p:cNvPr id="398" name=""/>
            <p:cNvGrpSpPr/>
            <p:nvPr/>
          </p:nvGrpSpPr>
          <p:grpSpPr>
            <a:xfrm>
              <a:off x="4084200" y="1955880"/>
              <a:ext cx="1568520" cy="1264680"/>
              <a:chOff x="4084200" y="1955880"/>
              <a:chExt cx="1568520" cy="1264680"/>
            </a:xfrm>
          </p:grpSpPr>
          <p:sp>
            <p:nvSpPr>
              <p:cNvPr id="399" name=""/>
              <p:cNvSpPr/>
              <p:nvPr/>
            </p:nvSpPr>
            <p:spPr>
              <a:xfrm rot="5400000">
                <a:off x="4601160" y="2169000"/>
                <a:ext cx="534240" cy="1568520"/>
              </a:xfrm>
              <a:custGeom>
                <a:avLst/>
                <a:gdLst>
                  <a:gd name="textAreaLeft" fmla="*/ 341280 w 534240"/>
                  <a:gd name="textAreaRight" fmla="*/ 534600 w 534240"/>
                  <a:gd name="textAreaTop" fmla="*/ 40680 h 1568520"/>
                  <a:gd name="textAreaBottom" fmla="*/ 1527840 h 156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93160" y="1955880"/>
                <a:ext cx="80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entro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58800" y="2452320"/>
              <a:ext cx="7951680" cy="3600000"/>
              <a:chOff x="658800" y="2452320"/>
              <a:chExt cx="7951680" cy="36000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1589040" y="5524560"/>
                <a:ext cx="4354560" cy="527760"/>
                <a:chOff x="1589040" y="5524560"/>
                <a:chExt cx="4354560" cy="52776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589040" y="5524560"/>
                  <a:ext cx="435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05320" y="5715000"/>
                  <a:ext cx="1218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lust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58800" y="2452320"/>
                <a:ext cx="7951680" cy="2976120"/>
                <a:chOff x="658800" y="2452320"/>
                <a:chExt cx="7951680" cy="2976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08960" y="5091120"/>
                  <a:ext cx="1001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p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249200" y="5124600"/>
                  <a:ext cx="6276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353960" y="2452320"/>
                  <a:ext cx="1800" cy="294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6200000">
                  <a:off x="-1800" y="3554640"/>
                  <a:ext cx="165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-5400000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ulse heigh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1235160" y="3000240"/>
              <a:ext cx="6291000" cy="1673280"/>
              <a:chOff x="1235160" y="3000240"/>
              <a:chExt cx="6291000" cy="1673280"/>
            </a:xfrm>
          </p:grpSpPr>
          <p:sp>
            <p:nvSpPr>
              <p:cNvPr id="411" name=""/>
              <p:cNvSpPr/>
              <p:nvPr/>
            </p:nvSpPr>
            <p:spPr>
              <a:xfrm>
                <a:off x="1248480" y="4673520"/>
                <a:ext cx="627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85600" y="4303800"/>
                <a:ext cx="108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hreshold_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66800" y="3000240"/>
                <a:ext cx="108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hreshold_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35160" y="3537720"/>
                <a:ext cx="627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1946160" y="3378240"/>
            <a:ext cx="2042640" cy="1785960"/>
            <a:chOff x="1946160" y="3378240"/>
            <a:chExt cx="2042640" cy="1785960"/>
          </a:xfrm>
        </p:grpSpPr>
        <p:sp>
          <p:nvSpPr>
            <p:cNvPr id="416" name=""/>
            <p:cNvSpPr/>
            <p:nvPr/>
          </p:nvSpPr>
          <p:spPr>
            <a:xfrm flipH="1">
              <a:off x="1946160" y="5147280"/>
              <a:ext cx="19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108520" y="3378240"/>
              <a:ext cx="1880280" cy="1785960"/>
              <a:chOff x="2108520" y="3378240"/>
              <a:chExt cx="1880280" cy="178596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3714840" y="4563000"/>
                <a:ext cx="2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01880" y="4045680"/>
                <a:ext cx="0" cy="5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427560" y="4029120"/>
                <a:ext cx="2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14240" y="3378240"/>
                <a:ext cx="0" cy="6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086640" y="3378240"/>
                <a:ext cx="31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074400" y="3394440"/>
                <a:ext cx="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760480" y="3645000"/>
                <a:ext cx="31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60480" y="3645000"/>
                <a:ext cx="0" cy="40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2446200" y="4045680"/>
                <a:ext cx="31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446200" y="4062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119680" y="4613400"/>
                <a:ext cx="31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08520" y="461340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3849840" y="3193560"/>
            <a:ext cx="2496960" cy="1987560"/>
            <a:chOff x="3849840" y="3193560"/>
            <a:chExt cx="2496960" cy="1987560"/>
          </a:xfrm>
        </p:grpSpPr>
        <p:sp>
          <p:nvSpPr>
            <p:cNvPr id="431" name=""/>
            <p:cNvSpPr/>
            <p:nvPr/>
          </p:nvSpPr>
          <p:spPr>
            <a:xfrm flipH="1">
              <a:off x="5576040" y="486396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62720" y="4095720"/>
              <a:ext cx="0" cy="75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75440" y="407916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914080" y="488088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62120" y="3711600"/>
              <a:ext cx="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947840" y="36946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947840" y="3193560"/>
              <a:ext cx="0" cy="50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4633920" y="319392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33920" y="3193920"/>
              <a:ext cx="0" cy="65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320360" y="384516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20360" y="38451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006440" y="437976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849840" y="5148000"/>
              <a:ext cx="249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03560" y="4383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133720" y="480060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   2     3     4      5      6     7      8    9     10     11   1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ntroid Calcul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7432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Centroid for three-strip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523880" y="3200400"/>
                <a:ext cx="1949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562720" y="3200400"/>
                <a:ext cx="2519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D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257800" y="2743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Centroid for five-strip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41911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ulse area of the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143000" y="4800600"/>
          <a:ext cx="6705720" cy="1674720"/>
        </p:xfrm>
        <a:graphic>
          <a:graphicData uri="http://schemas.openxmlformats.org/drawingml/2006/table">
            <a:tbl>
              <a:tblPr/>
              <a:tblGrid>
                <a:gridCol w="1295280"/>
                <a:gridCol w="5410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lse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m = D1 + D2 + D3 + D4 + D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  Pulse_Threshold_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ulse_Threshold_1, Pulse_Threshold_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ulse_Threshold_2, Pulse_Threshold_3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ulse_Threshold_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914400" y="2017800"/>
            <a:ext cx="80406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stream from Cluster Finder constitutes five 8-bit data words and one 11-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t fil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133720" y="3276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3276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019920" y="4419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46483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590920" y="4419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990720" y="5562720"/>
            <a:ext cx="7526160" cy="761760"/>
            <a:chOff x="990720" y="5562720"/>
            <a:chExt cx="7526160" cy="761760"/>
          </a:xfrm>
        </p:grpSpPr>
        <p:grpSp>
          <p:nvGrpSpPr>
            <p:cNvPr id="461" name=""/>
            <p:cNvGrpSpPr/>
            <p:nvPr/>
          </p:nvGrpSpPr>
          <p:grpSpPr>
            <a:xfrm>
              <a:off x="995400" y="5564880"/>
              <a:ext cx="7516800" cy="756720"/>
              <a:chOff x="995400" y="5564880"/>
              <a:chExt cx="7516800" cy="756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995400" y="5564880"/>
                <a:ext cx="1119240" cy="326520"/>
                <a:chOff x="995400" y="5564880"/>
                <a:chExt cx="1119240" cy="326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063800" y="5564880"/>
                  <a:ext cx="9824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..2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995400" y="5564880"/>
                  <a:ext cx="111924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2114640" y="5564880"/>
                <a:ext cx="1165320" cy="326520"/>
                <a:chOff x="2114640" y="5564880"/>
                <a:chExt cx="1165320" cy="326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182680" y="5564880"/>
                  <a:ext cx="102888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.2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114640" y="5564880"/>
                  <a:ext cx="116532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279960" y="5564880"/>
                <a:ext cx="936360" cy="326520"/>
                <a:chOff x="3279960" y="5564880"/>
                <a:chExt cx="936360" cy="3265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348000" y="5564880"/>
                  <a:ext cx="80028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.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279960" y="5564880"/>
                  <a:ext cx="93636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216320" y="5564880"/>
                <a:ext cx="1336680" cy="326520"/>
                <a:chOff x="4216320" y="5564880"/>
                <a:chExt cx="1336680" cy="326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284720" y="5564880"/>
                  <a:ext cx="12002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.1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16320" y="5564880"/>
                  <a:ext cx="133668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553000" y="5564880"/>
                <a:ext cx="1508400" cy="326520"/>
                <a:chOff x="5553000" y="5564880"/>
                <a:chExt cx="1508400" cy="3265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621400" y="5564880"/>
                  <a:ext cx="137160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.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553000" y="5564880"/>
                  <a:ext cx="150840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061400" y="5564880"/>
                <a:ext cx="1450800" cy="326520"/>
                <a:chOff x="7061400" y="5564880"/>
                <a:chExt cx="1450800" cy="326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129440" y="5564880"/>
                  <a:ext cx="131436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.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061400" y="5564880"/>
                  <a:ext cx="1450800" cy="32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995400" y="5891400"/>
                <a:ext cx="1119240" cy="430200"/>
                <a:chOff x="995400" y="5891400"/>
                <a:chExt cx="1119240" cy="430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063800" y="5891400"/>
                  <a:ext cx="98244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ck No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995400" y="5891400"/>
                  <a:ext cx="111924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2114640" y="5891400"/>
                <a:ext cx="1165320" cy="430200"/>
                <a:chOff x="2114640" y="5891400"/>
                <a:chExt cx="1165320" cy="430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2182680" y="5891400"/>
                  <a:ext cx="102888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lse A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114640" y="5891400"/>
                  <a:ext cx="116532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279960" y="5891400"/>
                <a:ext cx="936360" cy="430200"/>
                <a:chOff x="3279960" y="5891400"/>
                <a:chExt cx="936360" cy="430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348000" y="5891400"/>
                  <a:ext cx="80028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Q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279960" y="5891400"/>
                  <a:ext cx="93636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4216320" y="5891400"/>
                <a:ext cx="1336680" cy="430200"/>
                <a:chOff x="4216320" y="5891400"/>
                <a:chExt cx="1336680" cy="430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284720" y="5891400"/>
                  <a:ext cx="120024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DI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216320" y="5891400"/>
                  <a:ext cx="133668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5553000" y="5891400"/>
                <a:ext cx="1508400" cy="430200"/>
                <a:chOff x="5553000" y="5891400"/>
                <a:chExt cx="1508400" cy="430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621400" y="5891400"/>
                  <a:ext cx="137160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oi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53000" y="5891400"/>
                  <a:ext cx="150840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061400" y="5891400"/>
                <a:ext cx="1450800" cy="430200"/>
                <a:chOff x="7061400" y="5891400"/>
                <a:chExt cx="1450800" cy="430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129440" y="5891400"/>
                  <a:ext cx="131436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cision bi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061400" y="5891400"/>
                  <a:ext cx="1450800" cy="430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990720" y="5562720"/>
              <a:ext cx="7526160" cy="76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143000" y="1828800"/>
            <a:ext cx="6553080" cy="3657600"/>
            <a:chOff x="1143000" y="1828800"/>
            <a:chExt cx="6553080" cy="3657600"/>
          </a:xfrm>
        </p:grpSpPr>
        <p:grpSp>
          <p:nvGrpSpPr>
            <p:cNvPr id="500" name=""/>
            <p:cNvGrpSpPr/>
            <p:nvPr/>
          </p:nvGrpSpPr>
          <p:grpSpPr>
            <a:xfrm>
              <a:off x="1143000" y="2895480"/>
              <a:ext cx="1143000" cy="685800"/>
              <a:chOff x="1143000" y="2895480"/>
              <a:chExt cx="1143000" cy="685800"/>
            </a:xfrm>
          </p:grpSpPr>
          <p:sp>
            <p:nvSpPr>
              <p:cNvPr id="501" name=""/>
              <p:cNvSpPr/>
              <p:nvPr/>
            </p:nvSpPr>
            <p:spPr>
              <a:xfrm flipH="1">
                <a:off x="1676520" y="335268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1980720" y="335268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3000" y="320040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28800" y="28954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943600" y="3505320"/>
              <a:ext cx="457200" cy="685800"/>
              <a:chOff x="5943600" y="3505320"/>
              <a:chExt cx="457200" cy="68580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6019920" y="396252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943600" y="35053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1219320" y="1828800"/>
              <a:ext cx="6476760" cy="3657600"/>
              <a:chOff x="1219320" y="1828800"/>
              <a:chExt cx="6476760" cy="36576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219320" y="2133720"/>
                <a:ext cx="6476760" cy="3352680"/>
                <a:chOff x="1219320" y="2133720"/>
                <a:chExt cx="6476760" cy="335268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075120" y="3821040"/>
                  <a:ext cx="1744560" cy="500040"/>
                  <a:chOff x="3075120" y="3821040"/>
                  <a:chExt cx="1744560" cy="50004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075120" y="3821040"/>
                    <a:ext cx="122292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it Register modul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298040" y="4059360"/>
                    <a:ext cx="52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219320" y="2133720"/>
                  <a:ext cx="6476760" cy="3352680"/>
                  <a:chOff x="1219320" y="2133720"/>
                  <a:chExt cx="6476760" cy="335268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1219320" y="3065400"/>
                    <a:ext cx="1874520" cy="1622160"/>
                    <a:chOff x="1219320" y="3065400"/>
                    <a:chExt cx="1874520" cy="162216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1219320" y="3808800"/>
                      <a:ext cx="1277280" cy="48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2317680" y="3065400"/>
                      <a:ext cx="0" cy="749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1838160" y="3270240"/>
                      <a:ext cx="0" cy="549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495880" y="4071240"/>
                      <a:ext cx="5540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466000" y="4387320"/>
                      <a:ext cx="627840" cy="300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4807080" y="3121200"/>
                    <a:ext cx="1738080" cy="1769760"/>
                    <a:chOff x="4807080" y="3121200"/>
                    <a:chExt cx="1738080" cy="176976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807080" y="3777120"/>
                      <a:ext cx="1179360" cy="54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 Forma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367960" y="3121200"/>
                      <a:ext cx="0" cy="667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412960" y="4325760"/>
                      <a:ext cx="0" cy="5166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985000" y="4048560"/>
                      <a:ext cx="521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702760" y="4393080"/>
                      <a:ext cx="842400" cy="497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L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2476440" y="4881600"/>
                    <a:ext cx="2258640" cy="604800"/>
                    <a:chOff x="2476440" y="4881600"/>
                    <a:chExt cx="2258640" cy="60480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480400" y="5023440"/>
                      <a:ext cx="7099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2476440" y="5247360"/>
                      <a:ext cx="720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296160" y="4881600"/>
                      <a:ext cx="1438920" cy="604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tr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 sig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6516720" y="2522520"/>
                    <a:ext cx="1179360" cy="1892160"/>
                    <a:chOff x="6516720" y="2522520"/>
                    <a:chExt cx="1179360" cy="189216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598440" y="2522520"/>
                      <a:ext cx="953640" cy="69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 interface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516720" y="3687120"/>
                      <a:ext cx="1179360" cy="727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 Readout modu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6856200" y="3232080"/>
                      <a:ext cx="0" cy="4658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7307280" y="3231000"/>
                      <a:ext cx="0" cy="456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304720" y="2133720"/>
                    <a:ext cx="4324680" cy="1720800"/>
                    <a:chOff x="2304720" y="2133720"/>
                    <a:chExt cx="4324680" cy="17208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>
                      <a:off x="2304720" y="3054240"/>
                      <a:ext cx="7714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3727440" y="3505320"/>
                      <a:ext cx="0" cy="349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3076560" y="2714760"/>
                      <a:ext cx="1303200" cy="801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t Filter Control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>
                      <a:off x="4366800" y="3125880"/>
                      <a:ext cx="10098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3728880" y="2133720"/>
                      <a:ext cx="2900520" cy="914400"/>
                      <a:chOff x="3728880" y="2133720"/>
                      <a:chExt cx="2900520" cy="914400"/>
                    </a:xfrm>
                  </p:grpSpPr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3728880" y="2282760"/>
                        <a:ext cx="0" cy="4492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4848120" y="2133720"/>
                        <a:ext cx="1303560" cy="622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Z-centroid module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5791320" y="3048120"/>
                        <a:ext cx="8380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5791320" y="2743200"/>
                        <a:ext cx="0" cy="304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4172040" y="2462040"/>
                        <a:ext cx="689040" cy="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4186080" y="2481120"/>
                        <a:ext cx="0" cy="2239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47" name=""/>
              <p:cNvSpPr/>
              <p:nvPr/>
            </p:nvSpPr>
            <p:spPr>
              <a:xfrm>
                <a:off x="1828800" y="1828800"/>
                <a:ext cx="1752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entroids from Centroid Fin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580920" y="22860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962520" y="1981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514600" y="3657600"/>
              <a:ext cx="533520" cy="533520"/>
              <a:chOff x="2514600" y="3657600"/>
              <a:chExt cx="533520" cy="53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2514600" y="365760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2590920" y="396252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tion of the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990720" y="2438280"/>
            <a:ext cx="7696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imulation of the design was done using MAXPLUS-II as the synthesis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st data based on previous studies was obtained from Boston Univers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st data was used to check the functionality of the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3541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0 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0 det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 of VHDL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P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lectron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data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4114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LAB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838080" y="2666880"/>
            <a:ext cx="7543800" cy="2928240"/>
            <a:chOff x="838080" y="2666880"/>
            <a:chExt cx="7543800" cy="2928240"/>
          </a:xfrm>
        </p:grpSpPr>
        <p:sp>
          <p:nvSpPr>
            <p:cNvPr id="557" name=""/>
            <p:cNvSpPr/>
            <p:nvPr/>
          </p:nvSpPr>
          <p:spPr>
            <a:xfrm>
              <a:off x="1066680" y="373356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7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8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B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C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4 6D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5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6F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0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838080" y="2666880"/>
              <a:ext cx="7086600" cy="2928240"/>
              <a:chOff x="838080" y="2666880"/>
              <a:chExt cx="7086600" cy="2928240"/>
            </a:xfrm>
          </p:grpSpPr>
          <p:sp>
            <p:nvSpPr>
              <p:cNvPr id="559" name=""/>
              <p:cNvSpPr/>
              <p:nvPr/>
            </p:nvSpPr>
            <p:spPr>
              <a:xfrm>
                <a:off x="121896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38080" y="304776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EQ_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8564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52480" y="304776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HDI_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24080" y="3352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66880" y="2971800"/>
                <a:ext cx="99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HIP_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14440" y="3352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57240" y="27432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 OF ZER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952880" y="3429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71640" y="2666880"/>
                <a:ext cx="990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TRIP NUM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7280" y="3352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62360" y="2743200"/>
                <a:ext cx="914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ATA VAL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781680" y="4571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248160" y="525780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END OF EV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imulation result in MAXPLUS-I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LAB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odel functionally emulates the VHDL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as designed to check the functionality of the VHDL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the models agree on the result for the test data strea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pproaches to fit the design in minimum number of FPL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46784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design approaches showed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ynthesis tool first tries to fit the memory blocks and then the logic cel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memory assignment occupies more than one Embedded Array blocks, because of the word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the memories for downloaded parameters were allowed to be mapped in logic cel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verall design – Strip Reader, Centroid Finder, Hit Filter and the L3 buffers - was found to best fit in three FLEX 10KE FPL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4278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sign is functionally correct, and  successfully fits in three FLEX10KE FPL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prototype using this design for the main data path is being built at Boston Univers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r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sign can be modified to fit into a larger FPLD to improve the timing of the log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FPLDs such a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P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ALTERA and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RT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XILINX may b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6742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Reginald Per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orst Wah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Simon Fo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Bruce Harve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artment of Electrical and Computer Engineering, FAMU-FSU CO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artment of Physics at FSU and B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Science Foun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79292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0 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ZERO Experiment is conducted at Fermi National Acceleration Laboratory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D0 experiment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ot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ti proton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very high energy are made to collide in the TeVatron accelerator. This is carried out to find out about the smallest particles -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ark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itted in the colli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350532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3600" y="51055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TeVatron Accel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0 experiment (continued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experiment is currently undergoing a significan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pgrad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its detector electron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0 trigger electronics has three lev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_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_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4343400"/>
            <a:ext cx="41148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133720"/>
            <a:ext cx="777240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L2STT, which is part of Level_2  trigger electronics of the D0 dete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implement the design logic of main data path of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ngle chann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ilicon Track Card (S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sign logic is implemented using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HSIC Hardware Description Language (VHDL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oice of VHD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0 Detector gives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rge amount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time  -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ew micro-secon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HD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d to implement the design in hardware example Field Programmable Logic Devices (FPLD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HDL is independent of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99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eld Programmable Logic Devices (FPLD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speed, high performance logic 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gic can be downloaded onto device when in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VHDL, very complex logic can be easily developed and mapped onto the device with synthesis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PLDs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 tools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PLUS – II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r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n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op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VHDL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133720"/>
            <a:ext cx="411480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library alter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use altera.maxplus2.a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library iee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use ieee.std_logic_1164.a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use ieee.std_logic_arith.a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ntity comparator is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port (centroid : in unsigned (10 downto 0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roaddata : in unsigned (10 downto 0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compare : out std_logi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nd entity compa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architecture behavior of comparator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constant zero11 :unsigned ( 10 downto 0)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:= "000000000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c1c1c"/>
                </a:solidFill>
                <a:latin typeface="Tahoma"/>
                <a:ea typeface="Courier New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133720"/>
            <a:ext cx="449568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process(roaddata,centro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compare &lt;= '0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if(roaddata /= zero11 and centroid /= zero11 )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if (roaddata &gt; centroid )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compare &lt;= '1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compare &lt;= '0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compare &lt;= '0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Courier New"/>
              </a:rPr>
              <a:t>end architecture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20:40:01Z</dcterms:created>
  <dc:creator>Preferred Customer</dc:creator>
  <dc:description/>
  <dc:language>en-US</dc:language>
  <cp:lastModifiedBy>Horst D Wahl</cp:lastModifiedBy>
  <dcterms:modified xsi:type="dcterms:W3CDTF">2000-11-30T18:33:03Z</dcterms:modified>
  <cp:revision>152</cp:revision>
  <dc:subject/>
  <dc:title>The VHDL design and FPLD implementation of Silicon Track Card</dc:title>
</cp:coreProperties>
</file>